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B60-2D24-4A82-921B-6C6A21D0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706-0C65-46D4-94A7-FD744C58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1FA-8505-4BE6-9482-65CFE4B8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F80-A30B-4481-BF4E-36BE243C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9286-EE73-40F6-8663-67C8486B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33EF-10D6-4777-9D50-501A924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4C25-1B0D-44CD-A902-0369477D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00FD-D0A5-4633-82DC-C2F5BF09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3002-1645-4D14-8D0F-1E3ADC30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490B-9EAC-40F7-84AA-9B2EBC24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ADAA-A3F3-4BE7-830B-6DFA4EEF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628-F26A-44CF-981A-CD825CBE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96D4-C056-4D64-9B48-5D0CCD6F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CBB5-6EF7-40B6-9099-BA5D0E1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7C61-1123-4A0B-AA5C-47C5F99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4D2F-B91B-4F05-8931-E5FF3684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7062-5176-4792-86F5-1216FEBE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FF2-26B0-4B83-9A42-45E6E0AF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1E3-5AC3-4FCC-AFEC-28C6DC24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F6D-6A25-4E02-ABFE-39370FC2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780-8B02-477D-B375-66813FFC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2A0-3DDD-4EBE-B2A3-4E331C8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11F-A0BB-47A3-8A78-3A5F8B57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31F-9DB7-40F7-A30C-F8CCDDB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4C41-5ED4-4C74-A7EF-74286A3D5A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9155-0010-491E-A1DF-0B896734CC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вадратные неравенств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928520"/>
            <a:ext cx="67816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блемный вопрос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в жизни используются неравенства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руппа квадратных неравен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Хотим начать со слов персидско-таджикского поэта Рудаки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 тех пор как существует мирозданье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акого нет, кто б не нуждался в знанье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ой мы ни возьмем язык и век, 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гда стремится к знанью человек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тивац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аходит ли применение эти неравенства в окружающем нас мире?! А может это просто прихоть математиков?! Наверно нет! Ведь всякое явление можно описать с помощью функции, а умения решать неравенства позволяют ответить на вопрос, при каких значениях аргумента эта функция положительна, а при каких отрицатель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редел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Неравен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ида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&gt; 0, где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≠0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, b, 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некоторые числа, называются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квадратны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 Black"/>
              </a:rPr>
              <a:t>Алгоритм решения неравенств второй степени с одной переменной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694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ведите неравенство к ви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0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ите функц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пределите направление ветв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йдите точки пересечения параболы с осью абсцисс (для ни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х1и х2 найдите, решая уравнение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хематически постройте график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делите часть параболы, для котор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&gt;0 (y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Пример решения неравенств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5х2+9х-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х2+9х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Графиком функции является парабола, ветви которой направлены ввер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4. 5х2+9х-2=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1=-2; х2=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24506" t="0" r="0" b="18268"/>
          <a:stretch/>
        </p:blipFill>
        <p:spPr>
          <a:xfrm>
            <a:off x="3924360" y="5261040"/>
            <a:ext cx="2951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7715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Теперь хотим рассказать где они применяются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642600"/>
            <a:ext cx="8305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есть бедные люди и богаты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социальное неравен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на работе платят меньш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им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шем классе 5 мальчиков и 20 дев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же получается неравен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вочек больше чем мальч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ются в магазине, например когда взвешивают что-нибу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3" descr="рр.jpg"/>
          <p:cNvPicPr/>
          <p:nvPr/>
        </p:nvPicPr>
        <p:blipFill>
          <a:blip r:embed="rId1"/>
          <a:stretch/>
        </p:blipFill>
        <p:spPr>
          <a:xfrm>
            <a:off x="6429240" y="1071720"/>
            <a:ext cx="204660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м и д.bmp"/>
          <p:cNvPicPr/>
          <p:nvPr/>
        </p:nvPicPr>
        <p:blipFill>
          <a:blip r:embed="rId2"/>
          <a:stretch/>
        </p:blipFill>
        <p:spPr>
          <a:xfrm>
            <a:off x="7143840" y="2928960"/>
            <a:ext cx="1755720" cy="1590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весы.jpg"/>
          <p:cNvPicPr/>
          <p:nvPr/>
        </p:nvPicPr>
        <p:blipFill>
          <a:blip r:embed="rId3"/>
          <a:stretch/>
        </p:blipFill>
        <p:spPr>
          <a:xfrm>
            <a:off x="3143160" y="5143680"/>
            <a:ext cx="195264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7720" y="285480"/>
            <a:ext cx="800748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Наш 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получили, что неравенства в нашей жизни присутствуют везде – на экране телевизора, в литературе, на работе, в магазинах, в поездах и самолетах,  в сфере досуга, при организации обучения детей, на автострадах и городских улицах, в жилых кварталах и дачных поселках, в семьях, на всех уровнях отношений с окружающими людьми, почти в любом общении. И от него никуда не де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math"/>
          <p:cNvPicPr/>
          <p:nvPr/>
        </p:nvPicPr>
        <p:blipFill>
          <a:blip r:embed="rId1"/>
          <a:stretch/>
        </p:blipFill>
        <p:spPr>
          <a:xfrm>
            <a:off x="1692360" y="531720"/>
            <a:ext cx="590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9:10:12Z</dcterms:created>
  <dc:creator>Елена</dc:creator>
  <dc:description/>
  <dc:language>en-US</dc:language>
  <cp:lastModifiedBy>Nicolai</cp:lastModifiedBy>
  <dcterms:modified xsi:type="dcterms:W3CDTF">2011-06-09T11:56:47Z</dcterms:modified>
  <cp:revision>11</cp:revision>
  <dc:subject/>
  <dc:title>Квадратные неравенства</dc:title>
</cp:coreProperties>
</file>